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4C6-2033-42EC-8FA8-902BDC89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93B-03AA-4EDC-BE1A-48C2F7C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C88-4D4B-449D-ADA8-07FEDB7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333-FF88-4980-AE0F-9EF81326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858-1FFD-49D3-A3BC-284DAD57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19B-B7F6-4B4F-9CB1-BA1EAC9C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8473-F977-4B8B-A0C7-8160045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1C6-F353-489E-9292-0B46A2F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8042-9EF7-4E4B-B6B4-71FF5045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428-7A81-4BD0-9966-39320D1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266B-1787-4CC0-AE31-1BAE917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59B-435E-4C16-B485-FFF50F6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543D-F13C-4F1E-8F0A-6EC3D7B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6D8D-DE7F-41B9-BB06-4A4DB20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678-A5D1-46C9-ACFC-D82140C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57B-9EB1-451A-A4CB-F345C895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87F-68B3-4FF3-AA91-F1261810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105-5515-4FC7-B721-6813F81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2D6-46E2-4E0C-83E9-64A6342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A9C-FD6E-4D01-8529-B43EEA1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EE5-E923-4EF5-842D-565C227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2B3-E87E-416D-894A-98C382D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DF3-8D6A-4919-873B-3C9C727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EB4-0803-4E8A-8015-4E94EA1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9241-2920-41B9-8CA2-00FE676DD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F56-8A5E-4366-B4B0-3371255CDD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Сочинение на лингвистическую тему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удентка 341 гр. Кобзарь И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ой вопрос нашего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то такое лингвистик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 Black"/>
              </a:rPr>
              <a:t>Вопросы, ответы на которые мы будем иска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сочин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бывают виды сочин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мы пишем сочи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характеризует сочинение-рассужд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Arial Black"/>
              </a:rPr>
              <a:t>Дидактические цели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ить учащихся писать сочинение на лингвистическую те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бщить раннее пройденный материал по теме «Сочинени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ть у учащихся чувство самостоятельности и ответ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ить учащихся формам групповой и фронталь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4876920"/>
            <a:ext cx="18939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 Black"/>
              </a:rPr>
              <a:t>Представление результатов исследов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укл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очинение или э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резентации докла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инсценир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улировка правила (в таблице, сх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творческая 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 проведения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бор те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иск информ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Консультация преподавате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Самостоятельная работа учащих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. Защита проек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нформационные ресур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Справочник школьника. Русский язы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Под ред. В.Славкина – М., 19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Рисунок1-"/>
          <p:cNvPicPr/>
          <p:nvPr/>
        </p:nvPicPr>
        <p:blipFill>
          <a:blip r:embed="rId1"/>
          <a:stretch/>
        </p:blipFill>
        <p:spPr>
          <a:xfrm>
            <a:off x="3276720" y="3886200"/>
            <a:ext cx="26668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дачи в работе над проектами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ько</cp:lastModifiedBy>
  <dcterms:modified xsi:type="dcterms:W3CDTF">2010-05-22T16:46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